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338-8BDA-46C6-BEF0-4D0C610D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6E3-76BF-465B-A928-79A732CF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981-0F50-491A-A606-BFF4B5ED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2D5-BDD8-4B69-9C96-27E04BA6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052-102C-49B6-B117-70F7196A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31B-9095-4353-A66D-FD8F2825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6B0-D74E-4F5C-9530-293ED8F0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DCE-1150-4F15-900F-D002439B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1A1-AE79-4C7E-B8C4-414465C2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347-6DF4-433C-B9CA-C5E41BDE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04E-BE3A-48EB-97B6-536FA0D1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C43-35A0-4061-A025-DD2110C0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B139-5CDB-4A18-B20A-A25940C01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Escu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¿Cuál es tu clase favori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¿Cuál es tu clase menos favori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ntify people and things with Ser/ Describe people and things with Ser and Ad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Cuál es tu clase favorita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 Cuál es tu clase menos favori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Cómo es tu clase favorita? ¿Cómo es tu clase menos favori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Quién es el maestro/la maestr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04920" y="20685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 careful to make sure all articles, nouns, and adjectives agree in gender and number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Dónde está la clas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914400" y="3900600"/>
            <a:ext cx="3459240" cy="259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267080" y="1774800"/>
            <a:ext cx="2059200" cy="2222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914400" y="1787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verb Hay: Say what there is(are) in the room and in the class in gener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23619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752480" y="2951280"/>
            <a:ext cx="5340600" cy="3512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387080" y="2209680"/>
            <a:ext cx="32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¿Qué hay en la cla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9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and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376704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¿A qué hora vas a  la cla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¿A qué hora termina la cla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133720" y="1068480"/>
            <a:ext cx="50292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ress Obligation: Tener que + infini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ienes que hacer para sacar una buena no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on qué frecuenc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62320" y="409572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s en la clase? ¿Por qué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221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e &amp; Indefinite Articles/ Regular AR Verbs/ Adverbs of frequ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Qué usas en la clas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Qué más necesita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752480" y="3368520"/>
            <a:ext cx="5832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e gusta(n)? ¿Qué no te gusta(n)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27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2:29:14Z</dcterms:created>
  <dc:creator>SPS</dc:creator>
  <dc:description/>
  <dc:language>en-US</dc:language>
  <cp:lastModifiedBy>Nicole Fannoney</cp:lastModifiedBy>
  <cp:lastPrinted>2015-10-22T15:55:14Z</cp:lastPrinted>
  <dcterms:modified xsi:type="dcterms:W3CDTF">2015-10-26T18:09:59Z</dcterms:modified>
  <cp:revision>11</cp:revision>
  <dc:subject/>
  <dc:title>La Escuela</dc:title>
</cp:coreProperties>
</file>